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F2E58-5F21-4E7D-87B2-6B5BE435D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A7328-D2D0-4743-B4DF-4D82FB295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aha önceki bütün derslerde olduğu gibi bu ders de başlangıcında belirtilen gündem ve oturum amaçlarına benzer bir şekilde düzenlenmelid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BC23B-0E64-4D65-869F-B9664751B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9AC5C-F014-4C7B-BBDB-D2468A402B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CCB-718D-4C31-89F3-914AF30A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AA3-2BC3-49DF-A3F4-976BB36C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EC5-50A4-4836-BAAA-90591B5F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E7F-39A5-4570-8056-91C1C7EA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CC7-6C8C-45DB-ABCF-BF1B55A6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93C-18DE-4B0D-9C8B-003C795B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AA9-2843-44FB-B48B-767214A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A34-89CC-4F17-ABD3-ADB246B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492F-0042-4026-B99C-DBEE8D9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687-B1B5-4C99-8F04-331B32FF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C5B-394A-4ED0-8E3E-4B7FEA2A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468-AF38-451E-92C8-9B1BB3D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96723-54B7-4266-A69E-F7BF18582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Günlük Gözden Geçi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ersin sonunda öğrencil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 önceki günün faaliyetlerin anlaşım oldukları kısımlarını belirleye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lgilerinin gerekli düzeye getirilmesi için belgeleri gözden geçirmeleri gereken alanları belirleyebilecekler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Gün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920"/>
            <a:ext cx="851364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100" spc="-1" strike="noStrike">
                <a:solidFill>
                  <a:srgbClr val="000000"/>
                </a:solidFill>
                <a:latin typeface="Calibri"/>
              </a:rPr>
              <a:t>Birinci Günün Konuları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sun Açılışı ve Tanış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oruşturmalar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Zanlının Belirlenmesi Konusu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OPERATOR</dc:creator>
  <dc:description>Uğur Mumucu Caddesi Kırçiçeği Sokağı No: 8/2
TR-06700 G.O.P Çankaya/ANKARA
Fax: +90-312- 441 91 05</dc:description>
  <cp:keywords>www.erenoglu.com.tr</cp:keywords>
  <dc:language>en-US</dc:language>
  <cp:lastModifiedBy>OPERATOR</cp:lastModifiedBy>
  <dcterms:modified xsi:type="dcterms:W3CDTF">2013-08-05T07:04:16Z</dcterms:modified>
  <cp:revision>15</cp:revision>
  <dc:subject>ERENOGLU CONSULTANCY, TRANSLATION AND FOREIGN TRADE LTD CO.</dc:subject>
  <dc:title>ERENOĞLU DANIŞMANLIK TERCÜMANLIK VE DIŞ TİCARET LTD. ŞTİ.</dc:title>
</cp:coreProperties>
</file>